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1.pct" ContentType="image/x-pict"/>
  <Override PartName="/ppt/media/image13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jpeg" ContentType="image/jpeg"/>
  <Override PartName="/ppt/media/image5.pct" ContentType="image/x-pict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9B28-4C51-467F-B3F6-84D1CEC3D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E686-45FB-4558-B04C-8B70222D3B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CDB0-A11B-4883-AB2A-C2BBD5DEE8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EAFA-58E7-41E2-AB65-EF172D5A25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E0AA-0148-4327-BCD2-956757525D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2396-CA8D-43B1-BE2D-070919E35F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4C58-283F-4C24-9B3F-C8B2808895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1EC1-BD73-44A8-AA30-D6BFC7039B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D2D3-7194-438D-80E3-14C1059726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4294-1658-4018-B0B5-B53EB85106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9322-1251-4352-A6B6-3CA52A87A3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0EF8-1C18-4E67-BB3E-1C0940CF34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0B0E-447E-4666-AC37-B05507F89D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40B4-D82B-4097-AD1E-18489F0367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2D79-F39E-439C-85D8-256ABCFAA5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D6CC-3E8A-490D-A8F6-01E15C5A95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5B08-AD01-4C91-8A1D-8AF9F0E71D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34E7-3DD1-4744-8FDC-602EFA78DF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F8C1-B78D-4EE8-82AD-2588819083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3C2A-9B3E-4927-8697-CFBF106AA7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4E98-BD94-4CC7-9767-C759E3D18A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F1D3-AAE2-45CC-9FE4-AE57A44CE3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FF67-E908-4299-A1D6-F67E36E9A4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D18C-87F3-4B40-BF10-FD0BF38649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C2AB-746E-4691-97DD-020AAE407C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B03E-43D1-4D08-BADA-338881B1E7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FA2E-4AE7-4B09-B16F-F2A420F3A3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5257-FE69-41FE-BB55-6C6C142024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195E-6DC3-41BF-8A15-6A9DB9C778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1713-D488-46B3-9205-8178A4CD81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A07C-BC89-4661-A9E5-E61063A138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94E0-D4E6-4A3C-A143-14A7E8A54B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E00E-E72C-436B-B913-4450FAC235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2470-F1A6-4463-B0D3-DA05BA424D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4353-C39D-44AE-B29D-676BE75220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9D1B-02BB-4D5A-B012-FD8E0D360E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3C60-C24D-4561-A579-06604C6843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EF1F-1936-47E0-9435-1B78A8F6B0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C24-148B-4A34-AB31-E049A697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8865-E668-4E50-81A5-93CD0AFC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FC49-3A81-43B0-84F0-207E092A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69EB-217B-4A46-BC97-D4BDF9FF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A486-7137-4122-9CA2-93653F50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61B-64BE-47C3-AAE5-78D8A7A6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B167-19F7-45E1-BC09-2D0173F9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23E6-0C64-4E65-9BFB-C67AAAE5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B56C-FC01-4AF4-93EF-BAE267CE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9963-BD8E-47FF-9823-391AD274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29C0-F36B-4016-A0ED-F607767B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727E-6F71-4A51-9338-2EB7697E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55196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9FF6-46E4-4FD4-AC5F-CCA6B0782DC8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" name="Picture 4" descr="Photo 20"/>
          <p:cNvPicPr/>
          <p:nvPr/>
        </p:nvPicPr>
        <p:blipFill>
          <a:blip r:embed="rId2"/>
          <a:stretch/>
        </p:blipFill>
        <p:spPr>
          <a:xfrm>
            <a:off x="1143000" y="16002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Photo 21"/>
          <p:cNvPicPr/>
          <p:nvPr/>
        </p:nvPicPr>
        <p:blipFill>
          <a:blip r:embed="rId3"/>
          <a:stretch/>
        </p:blipFill>
        <p:spPr>
          <a:xfrm>
            <a:off x="4952880" y="160020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Photo 22"/>
          <p:cNvPicPr/>
          <p:nvPr/>
        </p:nvPicPr>
        <p:blipFill>
          <a:blip r:embed="rId4"/>
          <a:stretch/>
        </p:blipFill>
        <p:spPr>
          <a:xfrm>
            <a:off x="2971800" y="3581280"/>
            <a:ext cx="28702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mma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ISTS- Whenever you see lists containing 3 or more items of anything in a sentence, you must place a comma between each item.  Insert commas where needed in the following sentenc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Paul Mark Brett and Derek prepared served and ate some food that was delicious and healthy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mas- Adjectives and Introductio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69343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JECTIVES-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f you see 2 or more adjectives before a noun, you must place a comma between the adjective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he beautiful young reindeer is de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3352680" y="3538440"/>
            <a:ext cx="31244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S-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 comma should follow any phrase or word that introduces a sentences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s: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In this course, students learn how to master the ACT.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Eventually, Jennifer scored a 36 on the ACT English Tes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5" descr="images.jpeg"/>
          <p:cNvPicPr/>
          <p:nvPr/>
        </p:nvPicPr>
        <p:blipFill>
          <a:blip r:embed="rId2"/>
          <a:stretch/>
        </p:blipFill>
        <p:spPr>
          <a:xfrm>
            <a:off x="5257800" y="1957320"/>
            <a:ext cx="182880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as- Removable Phra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movable Phrases-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Commas should surround a non-essential, modifying phrase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y dad,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who is over 65 years old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, is retir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f you remove who is over 65 years old, it does NOT impact the central meaning of the sentence.  The phrase provides additional information, but it is NOT essential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as- Essential Modifying Phra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as should NOT surround an essential modifying phras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ople </a:t>
            </a:r>
            <a:r>
              <a:rPr b="1" lang="en-US" sz="2400" spc="-1" strike="noStrike">
                <a:solidFill>
                  <a:srgbClr val="99090e"/>
                </a:solidFill>
                <a:latin typeface="Verdana"/>
              </a:rPr>
              <a:t>who are over 65 years ol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re often retir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 this case, if you remove who are over 65 years old, you would be left with a sentence that has a much different meani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5" descr="images-1.jpeg"/>
          <p:cNvPicPr/>
          <p:nvPr/>
        </p:nvPicPr>
        <p:blipFill>
          <a:blip r:embed="rId2"/>
          <a:stretch/>
        </p:blipFill>
        <p:spPr>
          <a:xfrm>
            <a:off x="3352680" y="2971800"/>
            <a:ext cx="1587600" cy="1143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images.jpeg"/>
          <p:cNvPicPr/>
          <p:nvPr/>
        </p:nvPicPr>
        <p:blipFill>
          <a:blip r:embed="rId3"/>
          <a:stretch/>
        </p:blipFill>
        <p:spPr>
          <a:xfrm>
            <a:off x="5638680" y="2971800"/>
            <a:ext cx="16765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CLAUS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DEPENDENT CLAUSE-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 complete thought that contains at least a subject and a ver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s of Independent claus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Verdana"/>
              </a:rPr>
              <a:t>The dog at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Verdana"/>
              </a:rPr>
              <a:t>Joe failed the assignm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Verdana"/>
              </a:rPr>
              <a:t>Sinclair loves wooden bon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5" descr="images.jpeg"/>
          <p:cNvPicPr/>
          <p:nvPr/>
        </p:nvPicPr>
        <p:blipFill>
          <a:blip r:embed="rId2"/>
          <a:stretch/>
        </p:blipFill>
        <p:spPr>
          <a:xfrm>
            <a:off x="6019920" y="4114800"/>
            <a:ext cx="1803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Claus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PENDENT CLAUSES-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 incomplete thought composed of at least a subject and a verb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Verdana"/>
              </a:rPr>
              <a:t>Although we studied for seventeen hours straight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Verdana"/>
              </a:rPr>
              <a:t>When you look in the cabinet beneath the microwav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Verdana"/>
              </a:rPr>
              <a:t>Because he was a fabulous musicia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Verdana"/>
              </a:rPr>
              <a:t>If you finish your homework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67820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Colons (; &amp; :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1430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micolons and colons are often used as incorrect answers on the English Test, so you must understand how to use them properl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MICOLONS (;) can be used to replace a period when 2 independent clauses are closely relate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You don’t study the ACT because it’s fun.  You study the ACT because you want to go to college.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OR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You don’t study the ACT because it’s fun; you study the ACT because you want to go to college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oth versions are correct.  When you see a semicolon, make sure it separates 2 independent clauses; otherwise, it is incorrec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lons (: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LONS are generally used to introduce a lis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We ate a magnificent dinner</a:t>
            </a:r>
            <a:r>
              <a:rPr b="0" i="1" lang="en-US" sz="2800" spc="-1" strike="noStrike">
                <a:solidFill>
                  <a:srgbClr val="99090e"/>
                </a:solidFill>
                <a:latin typeface="Verdana"/>
              </a:rPr>
              <a:t>: lobster, shrimp, steak, and rib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p- Make sure that you DO NOT confuse the colon with the semicolon as they are obviously used for very different purposes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CT English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048120" y="2133720"/>
            <a:ext cx="3305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t’s vs. 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62160" y="2405160"/>
            <a:ext cx="618624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It’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abbreviation of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it i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the possessive form of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nt: Plug in </a:t>
            </a:r>
            <a:r>
              <a:rPr b="0" i="1" lang="en-US" sz="2800" spc="-1" strike="noStrike">
                <a:solidFill>
                  <a:srgbClr val="ff7a2c"/>
                </a:solidFill>
                <a:latin typeface="Verdana"/>
              </a:rPr>
              <a:t>it i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d see if it makes sens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’re vs. their vs. t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hey’r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90e"/>
                </a:solidFill>
                <a:latin typeface="Verdana"/>
              </a:rPr>
              <a:t>(abbreviation for </a:t>
            </a:r>
            <a:r>
              <a:rPr b="1" lang="en-US" sz="2400" spc="-1" strike="noStrike">
                <a:solidFill>
                  <a:srgbClr val="99090e"/>
                </a:solidFill>
                <a:latin typeface="Verdana"/>
              </a:rPr>
              <a:t>they are</a:t>
            </a:r>
            <a:r>
              <a:rPr b="0" lang="en-US" sz="2400" spc="-1" strike="noStrike">
                <a:solidFill>
                  <a:srgbClr val="99090e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hei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90e"/>
                </a:solidFill>
                <a:latin typeface="Verdana"/>
              </a:rPr>
              <a:t>(the possessive form of</a:t>
            </a:r>
            <a:r>
              <a:rPr b="1" lang="en-US" sz="2400" spc="-1" strike="noStrike">
                <a:solidFill>
                  <a:srgbClr val="99090e"/>
                </a:solidFill>
                <a:latin typeface="Verdana"/>
              </a:rPr>
              <a:t> they</a:t>
            </a:r>
            <a:r>
              <a:rPr b="0" lang="en-US" sz="2400" spc="-1" strike="noStrike">
                <a:solidFill>
                  <a:srgbClr val="99090e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her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90e"/>
                </a:solidFill>
                <a:latin typeface="Verdana"/>
              </a:rPr>
              <a:t>(indicates location or used as expletiv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Exampl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They’re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a really nice coupl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Their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dog is very lazy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There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are no paper towels left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781680" cy="10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rammatical Agreemen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6705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mmatical disagreement occurs when the words within a sentence do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ork well together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ronoun should match the antecedent/subjec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7a2c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a2c"/>
                </a:solidFill>
                <a:latin typeface="Verdana"/>
              </a:rPr>
              <a:t>Incorrect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team ru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up the hil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7f2e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Correct</a:t>
            </a:r>
            <a:r>
              <a:rPr b="0" lang="en-US" sz="2000" spc="-1" strike="noStrike">
                <a:solidFill>
                  <a:srgbClr val="ff7f2e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team run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up the hil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7f2e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Incorrect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company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an out of money, so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they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ent out of busines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7f2e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Correct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company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an out of money, so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it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ent out of business.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Incorrect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f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student pay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ttle attention in class,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they won’t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rove their  score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Correct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students pay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ttle attention in class,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they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n’t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rove their score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r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Correct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a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student pay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ttle attention in class,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he or she won’t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rove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his or her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cor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67820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erb Ten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920" y="3657600"/>
            <a:ext cx="35049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e want you to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searc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, identify, and eliminate incorrect answer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81480" y="3657240"/>
            <a:ext cx="3353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. No Chan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. be search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. have search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. search f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990720" y="1752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dealing with lists of verbs, make sure that the verbs are of the </a:t>
            </a:r>
            <a:r>
              <a:rPr b="1" lang="en-US" sz="2400" spc="-1" strike="noStrike">
                <a:solidFill>
                  <a:srgbClr val="99090e"/>
                </a:solidFill>
                <a:latin typeface="Arial"/>
              </a:rPr>
              <a:t>same tense and consisten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t may  be helpful to remove the other verbs from the list to help eliminate wrong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uess what Mr. Grybash is thinking?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Content Placeholder 6" descr="IMG00083-20090413-0946.jpg"/>
          <p:cNvPicPr/>
          <p:nvPr/>
        </p:nvPicPr>
        <p:blipFill>
          <a:blip r:embed="rId2"/>
          <a:stretch/>
        </p:blipFill>
        <p:spPr>
          <a:xfrm>
            <a:off x="990720" y="2357280"/>
            <a:ext cx="3504960" cy="3205440"/>
          </a:xfrm>
          <a:prstGeom prst="rect">
            <a:avLst/>
          </a:prstGeom>
          <a:ln w="0">
            <a:noFill/>
          </a:ln>
        </p:spPr>
      </p:pic>
      <p:pic>
        <p:nvPicPr>
          <p:cNvPr id="169" name="Content Placeholder 7" descr="IMG00084-20090413-0947.jpg"/>
          <p:cNvPicPr/>
          <p:nvPr/>
        </p:nvPicPr>
        <p:blipFill>
          <a:blip r:embed="rId3"/>
          <a:stretch/>
        </p:blipFill>
        <p:spPr>
          <a:xfrm>
            <a:off x="5089680" y="2395440"/>
            <a:ext cx="2444760" cy="3256200"/>
          </a:xfrm>
          <a:prstGeom prst="rect">
            <a:avLst/>
          </a:prstGeom>
          <a:ln w="0">
            <a:noFill/>
          </a:ln>
        </p:spPr>
      </p:pic>
      <p:sp>
        <p:nvSpPr>
          <p:cNvPr id="170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nglish Guessing Strateg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2640" y="22093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do I do if I have absolutely no idea what is going on in a certain question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ry the famous GOSH strategy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this strategy only for the English portion of the AC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5" descr="Photo 4"/>
          <p:cNvPicPr/>
          <p:nvPr/>
        </p:nvPicPr>
        <p:blipFill>
          <a:blip r:embed="rId2"/>
          <a:stretch/>
        </p:blipFill>
        <p:spPr>
          <a:xfrm>
            <a:off x="6553080" y="3809880"/>
            <a:ext cx="1687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4" descr="GOSH"/>
          <p:cNvPicPr/>
          <p:nvPr/>
        </p:nvPicPr>
        <p:blipFill>
          <a:blip r:embed="rId1"/>
          <a:stretch/>
        </p:blipFill>
        <p:spPr>
          <a:xfrm>
            <a:off x="1781280" y="0"/>
            <a:ext cx="57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bject vs. Objec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nouns change when used in different cases (subject, object, or possesiv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University of Illinois accepted Justin, Jim, and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almost sounds correct BUT it’s not.The sentence is properly writte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University of Illinois accepted Justin, Jim, and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me</a:t>
            </a:r>
            <a:r>
              <a:rPr b="0" lang="en-US" sz="2000" spc="-1" strike="noStrike">
                <a:solidFill>
                  <a:srgbClr val="99090e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62160" y="2405160"/>
            <a:ext cx="618624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University of Illinois accepted 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University of Illinois accepted m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can you expect?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at equals 9 minutes per passag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841760" y="1765440"/>
            <a:ext cx="20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856880" y="2303640"/>
            <a:ext cx="19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Pa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830600" y="2819520"/>
            <a:ext cx="38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Questions per pa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1905120" y="327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1830960" y="3352680"/>
            <a:ext cx="18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5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 it yourself.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2160" y="2405160"/>
            <a:ext cx="618624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Justin, Jim, and ____ went to the University of Illinois.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agm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omplete sentences AKA fragments are the most common sentence structure error. You will often see a sentence that is composed of only a </a:t>
            </a:r>
            <a:r>
              <a:rPr b="1" lang="en-US" sz="2400" spc="-1" strike="noStrike">
                <a:solidFill>
                  <a:srgbClr val="ff7f2e"/>
                </a:solidFill>
                <a:latin typeface="Verdana"/>
              </a:rPr>
              <a:t>dependent</a:t>
            </a:r>
            <a:r>
              <a:rPr b="0" lang="en-US" sz="2400" spc="-1" strike="noStrike">
                <a:solidFill>
                  <a:srgbClr val="ff7f2e"/>
                </a:solidFill>
                <a:latin typeface="Verdana"/>
              </a:rPr>
              <a:t> clau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can easily turn a </a:t>
            </a:r>
            <a:r>
              <a:rPr b="1" lang="en-US" sz="2400" spc="-1" strike="noStrike">
                <a:solidFill>
                  <a:srgbClr val="99090e"/>
                </a:solidFill>
                <a:latin typeface="Verdana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clause into an </a:t>
            </a:r>
            <a:r>
              <a:rPr b="1" lang="en-US" sz="2400" spc="-1" strike="noStrike">
                <a:solidFill>
                  <a:srgbClr val="99090e"/>
                </a:solidFill>
                <a:latin typeface="Verdana"/>
              </a:rPr>
              <a:t>independ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clause by removing what we call the </a:t>
            </a:r>
            <a:r>
              <a:rPr b="1" lang="en-US" sz="2400" spc="-1" strike="noStrike">
                <a:solidFill>
                  <a:srgbClr val="99090e"/>
                </a:solidFill>
                <a:latin typeface="Verdana"/>
              </a:rPr>
              <a:t>handcuff</a:t>
            </a:r>
            <a:r>
              <a:rPr b="0" lang="en-US" sz="2400" spc="-1" strike="noStrike">
                <a:solidFill>
                  <a:srgbClr val="99090e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ff7f2e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7f2e"/>
                </a:solidFill>
                <a:latin typeface="Verdana"/>
              </a:rPr>
              <a:t>Because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the dog ate a bon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^handcuff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s is a </a:t>
            </a:r>
            <a:r>
              <a:rPr b="1" lang="en-US" sz="2600" spc="-1" strike="noStrike">
                <a:solidFill>
                  <a:srgbClr val="ff7f2e"/>
                </a:solidFill>
                <a:latin typeface="Verdana"/>
              </a:rPr>
              <a:t>frag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dog ate a bon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s </a:t>
            </a:r>
            <a:r>
              <a:rPr b="0" lang="en-US" sz="2600" spc="-1" strike="noStrike">
                <a:solidFill>
                  <a:srgbClr val="ff7f2e"/>
                </a:solidFill>
                <a:latin typeface="Verdana"/>
              </a:rPr>
              <a:t>is grammatically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correc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TIP: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 If a sentence seems incomplete, it is potentially a fragment.  The answer choices often contain handcuffs, commas or semicolons in different location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Line 5"/>
          <p:cNvSpPr/>
          <p:nvPr/>
        </p:nvSpPr>
        <p:spPr>
          <a:xfrm flipV="1">
            <a:off x="2209680" y="24379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a Spli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ヒラギノ角ゴ Pro W3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ヒラギノ角ゴ Pro W3"/>
              </a:rPr>
              <a:t>_x0001_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comma splice attempts to use the following combin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Independent (comma) Independent (period)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90e"/>
                </a:solidFill>
                <a:latin typeface="Verdana"/>
              </a:rPr>
              <a:t>EX: The dog ate his homework, Joe failed the assignmen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is not a legal combo because it is missing a conjuction (and, or, or bu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un-O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ff7f2e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7f2e"/>
                </a:solidFill>
                <a:latin typeface="Verdana"/>
              </a:rPr>
              <a:t>Run-on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sentences are the same as comma splices without the comma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99090e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90e"/>
                </a:solidFill>
                <a:latin typeface="Verdana"/>
              </a:rPr>
              <a:t>EX: The dog ate his homework Joe failed the assignmen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TIP: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  If a sentence seems excessively long, it is potentially a run-on or comma splice.  The answer choices often contain commas or semicolons in different location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splaced Modifi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7f2e"/>
                </a:solidFill>
                <a:latin typeface="Verdana"/>
              </a:rPr>
              <a:t>misplaced modifi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is a modifying phrase or word that has wandered too far away from what it is supposed to be modifying, leaving it confus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99090e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90e"/>
                </a:solidFill>
                <a:latin typeface="Verdana"/>
              </a:rPr>
              <a:t>Adam bought ice cream for his students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with chocolate sprinkl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 the students have chocolate sprinkles or does the ice cream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7f2e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f2e"/>
                </a:solidFill>
                <a:latin typeface="Verdana"/>
              </a:rPr>
              <a:t>Correctly Sta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am bought ice cream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with chocolate sprinkl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his student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TIP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Misplaced modifier questions are the only usage/mechanics questions that frequently appear in a format other than the “NO CHANGE” format.  They may ask, “The best placement for the underlined portion would be”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elpful Hints for During the Ex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t up Stra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ax and Breath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ke Advantage of the Brea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elpful Hints for Before the Ex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t We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t Something……Health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ress in Lay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n’t Frea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6705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Picture 5" descr="THE+END"/>
          <p:cNvPicPr/>
          <p:nvPr/>
        </p:nvPicPr>
        <p:blipFill>
          <a:blip r:embed="rId2"/>
          <a:stretch/>
        </p:blipFill>
        <p:spPr>
          <a:xfrm>
            <a:off x="1447920" y="2590920"/>
            <a:ext cx="59180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oncept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14400" y="152352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nctu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mma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postroph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lo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arenthesis and Dash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mbo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mmar and U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Grammatical Agreem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Verb Ten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onoun Form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ifier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diom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059200" y="1371600"/>
            <a:ext cx="42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age and Mechan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952880" y="25909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648320" y="2514600"/>
            <a:ext cx="331128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tenc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entence Frag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Run-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mma Spl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isplaces Modif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hifts in 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9" descr="images-2.jpeg"/>
          <p:cNvPicPr/>
          <p:nvPr/>
        </p:nvPicPr>
        <p:blipFill>
          <a:blip r:embed="rId2"/>
          <a:stretch/>
        </p:blipFill>
        <p:spPr>
          <a:xfrm>
            <a:off x="3429000" y="4648320"/>
            <a:ext cx="1701720" cy="1041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images.jpeg"/>
          <p:cNvPicPr/>
          <p:nvPr/>
        </p:nvPicPr>
        <p:blipFill>
          <a:blip r:embed="rId3"/>
          <a:stretch/>
        </p:blipFill>
        <p:spPr>
          <a:xfrm>
            <a:off x="5715000" y="4648320"/>
            <a:ext cx="13590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oncepts Continued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907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hetorical Skil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rateg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y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nsi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5" descr="images-3.jpeg"/>
          <p:cNvPicPr/>
          <p:nvPr/>
        </p:nvPicPr>
        <p:blipFill>
          <a:blip r:embed="rId2"/>
          <a:stretch/>
        </p:blipFill>
        <p:spPr>
          <a:xfrm>
            <a:off x="3683160" y="2927520"/>
            <a:ext cx="413064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is usage and mechanics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age/Mechanics problems test how well you can construct a functional sentence using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rules of punctu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amma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ntence structure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is usage and mechanics?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inu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29718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 1/2 of the problems in the English Test are Usage/Mechanics problems. Therefore, every rule that you learn is another tool in your toolbox that will help you solve more Usage/Mechanics problems and ultimately increase your English scor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Picture 5" descr="images-1.jpeg"/>
          <p:cNvPicPr/>
          <p:nvPr/>
        </p:nvPicPr>
        <p:blipFill>
          <a:blip r:embed="rId2"/>
          <a:stretch/>
        </p:blipFill>
        <p:spPr>
          <a:xfrm>
            <a:off x="1295280" y="4648320"/>
            <a:ext cx="1133640" cy="101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images.jpeg"/>
          <p:cNvPicPr/>
          <p:nvPr/>
        </p:nvPicPr>
        <p:blipFill>
          <a:blip r:embed="rId3"/>
          <a:stretch/>
        </p:blipFill>
        <p:spPr>
          <a:xfrm>
            <a:off x="5638680" y="4648320"/>
            <a:ext cx="11239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mas, Commas, and more Comma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2209320"/>
            <a:ext cx="7010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nctuation marks are used for more than sideways faces. ;) This next section will teach you the formal rules of punctuation that frequently appear on the ACT English test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answer choices will have the same set of words with punctuation marks (sometimes different) in varying locations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mas, Commas, and more Comma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19320" y="2286000"/>
            <a:ext cx="6705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as are meant to create natural pauses in a sentence. When used improperly (i.e. misplaced, too many, or not enough) commas disrupt the flow of the sentence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as are the most frequently tested punctuation on the ACT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4:51:32Z</dcterms:created>
  <dc:creator>Buffalo Grove High School</dc:creator>
  <dc:description/>
  <dc:language>en-US</dc:language>
  <cp:lastModifiedBy>BGHS</cp:lastModifiedBy>
  <cp:lastPrinted>2009-04-13T13:39:36Z</cp:lastPrinted>
  <dcterms:modified xsi:type="dcterms:W3CDTF">2009-04-14T13:14:48Z</dcterms:modified>
  <cp:revision>37</cp:revision>
  <dc:subject/>
  <dc:title>ACT English </dc:title>
</cp:coreProperties>
</file>